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57603"/>
        <c:axId val="24047374"/>
      </c:barChart>
      <c:catAx>
        <c:axId val="60757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47374"/>
        <c:crosses val="autoZero"/>
        <c:auto val="1"/>
        <c:lblAlgn val="ctr"/>
        <c:lblOffset val="100"/>
        <c:noMultiLvlLbl val="0"/>
      </c:catAx>
      <c:valAx>
        <c:axId val="24047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7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82D-CB11-4BD8-8619-1F9FC1BA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CF3-946B-425E-84B8-410B9DB5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5D3-111F-4BF8-90C7-75B327B9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EAE-F782-4A3F-B4EE-329BC20E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A36-7766-4F30-A6F8-A53DDFC4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C87-9CAA-4BEC-B665-CB06688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891-5066-4C53-A636-884D59F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585-2BB5-4580-8D29-70F92E4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E1D-C95C-46AC-9774-BE5FB928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4CC-53EC-4392-962A-55306E3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5DD-6D50-4301-898A-9B94C92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D6A-936D-4E73-B508-9F87172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E758-A795-46E6-8BDC-B0B432BAA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