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75669"/>
        <c:axId val="53376701"/>
      </c:barChart>
      <c:catAx>
        <c:axId val="26675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6701"/>
        <c:crosses val="autoZero"/>
        <c:auto val="1"/>
        <c:lblAlgn val="ctr"/>
        <c:lblOffset val="100"/>
        <c:noMultiLvlLbl val="0"/>
      </c:catAx>
      <c:valAx>
        <c:axId val="53376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75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C22-D176-4236-A402-1CB0B94E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D7F-C28B-4205-A9EE-6A699A3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FBE-2A36-40FF-81F6-C5280A3F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DFF-B07A-4717-A8C1-8FB13881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C18-80AB-4736-B6AB-D761111D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26A-24B9-489A-A1F6-D059BEC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85A-6E9A-48B4-9917-433D275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440-FBE7-40A0-984B-369763C4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146-9080-486C-B9EE-B001C866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453-7F5A-4CA6-B095-39A1326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72D-F1F5-4508-9DA7-3DFDDA2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434-7573-4122-A055-96E69F6B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D6179-E47A-42C6-8593-E175B4E7C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