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5938"/>
        <c:axId val="86120714"/>
      </c:barChart>
      <c:catAx>
        <c:axId val="98155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0714"/>
        <c:crosses val="autoZero"/>
        <c:auto val="1"/>
        <c:lblAlgn val="ctr"/>
        <c:lblOffset val="100"/>
        <c:noMultiLvlLbl val="0"/>
      </c:catAx>
      <c:valAx>
        <c:axId val="86120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5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ADA-7071-4FE9-B608-08DB8DC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7FC-D6BD-4A26-B171-DA2BEDD8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947-7A3F-438F-B3F4-4308B06A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865-2AF0-4D0B-B5E0-695B35A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1C7-3217-43AF-BB3F-F9E0805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268-90A2-4DEC-BC20-86689C81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DCD-9E0B-4872-B1D2-DC2A78B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8EC-FFC9-4736-9945-9CDFD55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3C6-D4FE-489F-B04F-4856238A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75F-FA43-4A50-B081-6F73043D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3A9-22EC-4819-94B3-4BA00927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F59-D70F-47F5-A67D-0012DF1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81D7-C6F4-4EDF-BF13-55B074450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