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87572"/>
        <c:axId val="47044490"/>
      </c:barChart>
      <c:catAx>
        <c:axId val="927875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44490"/>
        <c:crosses val="autoZero"/>
        <c:auto val="1"/>
        <c:lblAlgn val="ctr"/>
        <c:lblOffset val="100"/>
        <c:noMultiLvlLbl val="0"/>
      </c:catAx>
      <c:valAx>
        <c:axId val="470444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875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F1CF-EBC8-4B7E-AD12-DF0029E6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558-4F3D-4F60-98C3-878EB6C7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0CC8-7916-45FF-88A7-12991023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C1E5-3192-4673-B50F-B1A650E4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88C-3938-469F-9A72-CA795278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ECA5-93D8-48A8-91CE-A665A42B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9237-E1E6-476F-A1C4-3E15E0B2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D3B4-AF96-4287-94EA-55F387B3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81A1-95C8-40FA-8BF5-F2A42E7D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B28F-A8E7-4FCD-8A85-794E096F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CA9-E9DD-4F78-ACCA-F27B1D4A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11C-A8A2-4513-9ED5-5B61BFC1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5B0FE-57BD-47C4-A8A6-DCC86A9771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