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61018"/>
        <c:axId val="70180569"/>
      </c:barChart>
      <c:catAx>
        <c:axId val="28061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0569"/>
        <c:crosses val="autoZero"/>
        <c:auto val="1"/>
        <c:lblAlgn val="ctr"/>
        <c:lblOffset val="100"/>
        <c:noMultiLvlLbl val="0"/>
      </c:catAx>
      <c:valAx>
        <c:axId val="70180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61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B20-AC1D-4855-9E2B-3DEB4C41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432-B1BC-410B-93CB-31569535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977-59D1-456E-A433-B7D120A5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333-B3AD-43DF-B21C-7A530DBA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C87-0C1B-4B5A-98ED-5C7FA9F5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04C-702B-457C-9C61-5E760ED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C7A-A58E-493D-A960-9D289E60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685-696B-47E4-9BDD-876E7A2D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8CA-5276-42BC-935E-87641887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948-76DC-4DA0-AEE4-0B93C93F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1C9-7031-4B50-B22A-BF0E87FB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96B-C3DB-4099-81BB-0EF0996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9EDED-7EE2-4029-B85E-F728812B1B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