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62914"/>
        <c:axId val="24549886"/>
      </c:barChart>
      <c:catAx>
        <c:axId val="44062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49886"/>
        <c:crosses val="autoZero"/>
        <c:auto val="1"/>
        <c:lblAlgn val="ctr"/>
        <c:lblOffset val="100"/>
        <c:noMultiLvlLbl val="0"/>
      </c:catAx>
      <c:valAx>
        <c:axId val="24549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62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27A-69E2-4EE1-BDE7-F257A351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4C8A-C13E-4095-BD48-7DFD787A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5CD-3366-4613-BFD4-02F174FA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654-B03D-4CFF-969A-FC80C38C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B3B-1917-4A90-99E2-E8BD69BA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E42-C46B-4068-AC9F-EB41FC2B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74C-98D4-4B10-9308-8189BE75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8AC-7D90-4E0E-BC65-0E6F7233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6BA-1E92-4CB8-9D48-C0F01F69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046-F94E-4C61-AD84-209D3558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BC8-E412-4F76-8D85-A449180D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DC5-3BCA-40EB-84BB-145753B0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B68DB-0F9F-414D-9B17-4990C4BC00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