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52959"/>
        <c:axId val="39875177"/>
      </c:barChart>
      <c:catAx>
        <c:axId val="26852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75177"/>
        <c:crosses val="autoZero"/>
        <c:auto val="1"/>
        <c:lblAlgn val="ctr"/>
        <c:lblOffset val="100"/>
        <c:noMultiLvlLbl val="0"/>
      </c:catAx>
      <c:valAx>
        <c:axId val="39875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52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A83-3DDE-463C-9BA0-8CE24B93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90E-00C2-418D-AA0F-DD5EC463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132-6A29-4424-A198-CBFA55B8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C7D-97DF-4A62-A792-5EC1DB0C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0F2-66A4-4832-A6DF-911A3F90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524-F87F-4B95-95C0-B72DB4EB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869-1942-4C9C-9E5C-485DD9B7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603-FB49-4F25-9D3E-D1B3D196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3B7-2957-4B21-B8FE-382CA351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F54-8B8A-4664-9D31-8860EF1F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172-D6DB-4D1F-A138-E4B9600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A40-81E7-4256-B8C6-4764075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5FB04-53FD-48C0-8AC6-F77B3795A9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