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58651"/>
        <c:axId val="10939461"/>
      </c:barChart>
      <c:catAx>
        <c:axId val="99958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39461"/>
        <c:crosses val="autoZero"/>
        <c:auto val="1"/>
        <c:lblAlgn val="ctr"/>
        <c:lblOffset val="100"/>
        <c:noMultiLvlLbl val="0"/>
      </c:catAx>
      <c:valAx>
        <c:axId val="10939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58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54E-7628-48FE-8157-38FE2E80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0D2-DDA7-442A-A3DF-A83B420B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E84-F189-456A-8552-805613B8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8D4-432E-43C2-9DC4-D252179D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DE4-4589-4D3B-99F7-58A5637A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88C-0448-4227-B581-6D408052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995-F660-4901-974B-74D474D5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259-2951-462C-8AE5-A2D97336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F00-90EF-4726-8501-31A537A1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C49-687D-4FF9-A37D-EA1391B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291-4B1E-4F94-B734-A85D457B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AB6-5DDA-414F-9D85-4D00F27D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D235A-95C9-4358-80E0-2713EE8C75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