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34334"/>
        <c:axId val="45167540"/>
      </c:barChart>
      <c:catAx>
        <c:axId val="26634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67540"/>
        <c:crosses val="autoZero"/>
        <c:auto val="1"/>
        <c:lblAlgn val="ctr"/>
        <c:lblOffset val="100"/>
        <c:noMultiLvlLbl val="0"/>
      </c:catAx>
      <c:valAx>
        <c:axId val="45167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34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410-73EB-45A2-8353-28CD5812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DD2-8DAB-4A49-914C-426A53A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8A5-80D8-485A-94D0-E7984332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D32-CA9F-4265-87CC-51F4A21B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435-B065-4135-94CD-83119A7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82B-98C4-4B1B-B1CF-33FC61F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BC8-D831-4120-971F-0C718CA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16D-900A-4C3F-B82B-B369380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0A6-52CF-4180-B620-8421003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864-733D-4232-91D9-9E95EC1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5B1-6302-4835-BC30-AF3A10C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B7B-B734-407B-B376-02A26F0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0E2A5-C335-4134-AF85-DEF6B71CE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