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619452"/>
        <c:axId val="91349630"/>
      </c:barChart>
      <c:catAx>
        <c:axId val="656194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49630"/>
        <c:crosses val="autoZero"/>
        <c:auto val="1"/>
        <c:lblAlgn val="ctr"/>
        <c:lblOffset val="100"/>
        <c:noMultiLvlLbl val="0"/>
      </c:catAx>
      <c:valAx>
        <c:axId val="913496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194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23D4-D8BA-48CD-9D38-4AB361CC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43A6-7D74-4DE8-89EB-F8AD19F2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59DC-BD50-4AD0-9680-83E01267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1DB9-EA61-48B1-A3A1-DDD5191A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639D-6404-4C3A-AFAF-DE2655A0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4E72-BD2A-46BE-AFC0-6DBDF2CC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8A9A-0C57-44CE-B72B-933E8F89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1D2B-2FC9-457F-89AC-295D7ABE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1CB3-3611-4BE9-9E65-65A29A40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FBE9-4ED8-4015-B0B8-279FA7BC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BD9C-7B7B-44AF-81C2-DB6F7504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1396-06C0-461B-ADE7-9240C7FB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067B3-BBE4-4E9D-BC77-12EA577176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