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49648"/>
        <c:axId val="75696996"/>
      </c:barChart>
      <c:catAx>
        <c:axId val="98449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96996"/>
        <c:crosses val="autoZero"/>
        <c:auto val="1"/>
        <c:lblAlgn val="ctr"/>
        <c:lblOffset val="100"/>
        <c:noMultiLvlLbl val="0"/>
      </c:catAx>
      <c:valAx>
        <c:axId val="75696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49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A68-C9FF-4B47-8750-B9F8DE17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E41-EB48-4475-B201-D7BA49C9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0F43-29FA-466C-B9B9-E6243C4E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969-CA78-44E4-807D-66060982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33BF-B7AD-4259-A8F7-1A9FBA10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24E-9A83-4047-8DE3-B4A5695C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B893-D283-4FE6-9F06-FC958E36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80B-7BDA-4B47-8116-63E3B537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FE1-9054-4001-A0F6-D0DF7898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501-0BC1-4598-B845-0F59C0E4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A7EF-6B35-44BA-AA91-696B66EA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EB4-8813-433A-9025-BE3C2CB4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A330D-FEEC-45F8-BA46-AAEF56979C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