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80223"/>
        <c:axId val="26052192"/>
      </c:barChart>
      <c:catAx>
        <c:axId val="87480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52192"/>
        <c:crosses val="autoZero"/>
        <c:auto val="1"/>
        <c:lblAlgn val="ctr"/>
        <c:lblOffset val="100"/>
        <c:noMultiLvlLbl val="0"/>
      </c:catAx>
      <c:valAx>
        <c:axId val="26052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80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CDD-F940-4902-A62F-2F7584B4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89D-330B-4041-B513-29B181F5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FDE-86FC-4004-9B5A-976EDC2E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2CC-0038-4991-8103-E9B64A82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2CC-F31A-4185-AB7E-C110FBF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078-50CF-40E1-8515-8E11830E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E69-E936-4BA5-8BBA-139935A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D47-3F55-41F4-9909-ED294B95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9DB-C61E-47BB-A296-3FD5D83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279-E6CF-42C5-9F92-C600DAD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0C4-3931-44A0-A704-4C882ED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B6D-03EA-492B-9AD2-8684B35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135C6-7FD0-44A2-A016-4AC359775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