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36349"/>
        <c:axId val="70414434"/>
      </c:barChart>
      <c:catAx>
        <c:axId val="74736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14434"/>
        <c:crosses val="autoZero"/>
        <c:auto val="1"/>
        <c:lblAlgn val="ctr"/>
        <c:lblOffset val="100"/>
        <c:noMultiLvlLbl val="0"/>
      </c:catAx>
      <c:valAx>
        <c:axId val="70414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36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1F4-78AF-49B3-9DD8-1153AF63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684-B60F-43C2-94E8-DC62DD29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75D-52ED-45E5-92FD-EA9BD073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62C-D06D-4241-98E1-BD586779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473-4371-4172-91DA-25EC3FAE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3D5-57BE-4AF5-B42F-CF1509C4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DB8-4658-43B2-94CF-935AFEFB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D60-2E39-466F-97F9-93B3DAAA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AF9-BC59-4E50-B8AD-D4C5981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1F2-71DF-470D-A383-18A1EF46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0D8-09F2-47A3-B8FA-58855920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916-7A1D-4D75-A543-F4C74732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5A5E4-DDD8-409B-9830-71C731277B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