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73982"/>
        <c:axId val="27273654"/>
      </c:barChart>
      <c:catAx>
        <c:axId val="16573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273654"/>
        <c:crosses val="autoZero"/>
        <c:auto val="1"/>
        <c:lblAlgn val="ctr"/>
        <c:lblOffset val="100"/>
        <c:noMultiLvlLbl val="0"/>
      </c:catAx>
      <c:valAx>
        <c:axId val="27273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73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78F-9BD5-4244-9E79-E8B7C1409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B35-6901-410D-BF26-39C4BADE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8B00-8C9A-4C52-B3EC-3DB2A798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4DF-310E-4917-AAA0-16454FA0C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5758-A8E3-478D-9D7C-BAEFCCC8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C046-4A17-4464-B96E-D41ECDBF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2348-C9FA-4AB7-A9B7-74EFC82E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69DD-BD68-4A28-B479-987DB4536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1C9F-A78A-4F07-82F6-DB7593F23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C7DD-E57F-406F-8697-99F8D273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2D93-5EF1-4D9D-A6ED-D51EA519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7F9-741E-4D05-B3F9-2B8A90CD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11F38-DDE6-4247-BDFF-D47478DF45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