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397906"/>
        <c:axId val="31137322"/>
      </c:barChart>
      <c:catAx>
        <c:axId val="133979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137322"/>
        <c:crosses val="autoZero"/>
        <c:auto val="1"/>
        <c:lblAlgn val="ctr"/>
        <c:lblOffset val="100"/>
        <c:noMultiLvlLbl val="0"/>
      </c:catAx>
      <c:valAx>
        <c:axId val="31137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3979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CCC7-CD68-4529-8666-2CEE0BDD8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B68D-4901-49C7-8370-71ED9B38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C2B-FABB-4B1E-A974-E00621E68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FCF-9240-4163-AAAA-B8D80FF0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FDC0-A225-424C-BA7D-8F386B2DD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9C45-0291-4877-88C6-C9009DC9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3503-19C6-4C08-941C-28CD151F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09BE-D378-4AD4-AFF7-60DA4D510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B9CC-0722-4B3B-8D12-8B552212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2F3-5000-4E79-AF8C-453B2C07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3709-AFA2-4424-BB3A-281D995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4948-3C3F-46FD-83AF-4881B140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838DB3-FFA6-44F6-A50C-2C22A9EB3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