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399007"/>
        <c:axId val="39653147"/>
      </c:barChart>
      <c:catAx>
        <c:axId val="283990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653147"/>
        <c:crosses val="autoZero"/>
        <c:auto val="1"/>
        <c:lblAlgn val="ctr"/>
        <c:lblOffset val="100"/>
        <c:noMultiLvlLbl val="0"/>
      </c:catAx>
      <c:valAx>
        <c:axId val="39653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3990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6CB4-292A-4AF2-80A5-20A6FF0A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D56E-116A-4984-B79C-84E75B0E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D989-EE83-475F-B8B6-4662DD54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E36-1559-4BE8-9FB1-694A8F76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7244-517C-414E-AD7A-B64AEA69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8A1-6542-4F2D-9812-6374BCC4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7D53-6FD4-4B93-A0B8-52C81F83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C2F-A490-4123-B92D-7BF14824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54D-9282-464A-B4FB-214E45E1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D6ED-C130-4882-A8CE-ED9F9B27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CE7-BBC0-41AD-BB82-38181151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AD06-FAB1-43AD-8D5D-0106E3F60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631DA-327F-4CDB-9049-05F28A1F72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