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25369"/>
        <c:axId val="72679462"/>
      </c:barChart>
      <c:catAx>
        <c:axId val="10025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79462"/>
        <c:crosses val="autoZero"/>
        <c:auto val="1"/>
        <c:lblAlgn val="ctr"/>
        <c:lblOffset val="100"/>
        <c:noMultiLvlLbl val="0"/>
      </c:catAx>
      <c:valAx>
        <c:axId val="72679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25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3B5D-022B-478D-8F2A-9BA2718D2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3FE-F213-40C0-B6C9-1A9171B09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8E9-4A0F-4DEF-B33B-938F0E44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CC7F-86F8-42D7-8399-D2ACC279F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528-3ECD-4F7B-82B5-4EE24005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597-3976-418B-81FA-201BC4D6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BD7-8771-42DB-BB4A-5A87399E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238D-E6C6-412C-8152-6FA97AB6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1BCC-E1C1-4220-93C2-B627C1F5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DD28-0D93-488B-B35A-BE6031DE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89C-2E78-4147-81CE-27BE3573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36C9-FAAC-4AE2-A2D9-04216F0B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EDBC3-9930-47D3-BDF8-E389F79972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