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50921"/>
        <c:axId val="35075493"/>
      </c:barChart>
      <c:catAx>
        <c:axId val="201509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075493"/>
        <c:crosses val="autoZero"/>
        <c:auto val="1"/>
        <c:lblAlgn val="ctr"/>
        <c:lblOffset val="100"/>
        <c:noMultiLvlLbl val="0"/>
      </c:catAx>
      <c:valAx>
        <c:axId val="350754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509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C69E-5F89-4A89-8D57-E50CB8B5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B74B-4CFE-4732-A8D5-F1BF4E6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B4A0-2EEE-4364-A3AD-9F6C8289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3B59-9057-4547-8C09-F85B3B265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D4F6-55E3-4683-A53C-DD340CDB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1C57-629C-401F-8140-4EAA70C2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4AD-5D79-4F6D-82BF-31985F39F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E424-4577-44D2-A908-26222D9B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46C2-C63D-4DB7-971C-6E4641E2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7C0-18CA-4F23-8C59-D65F6232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D0B-A06B-4F2D-91F3-C90A51AA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0557-ACF8-45C1-BFFA-401ACCA2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2AD94-2E6F-43A4-A483-2F20F96EE2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